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7ACC-AB6D-4D0F-9E71-551C87AF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235-B321-43F1-83A1-DBA75227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B8B-2AD6-453B-8963-5BB75B1F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E993-F2D3-4ACF-97D8-782C7281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20F71-09D0-4A90-8B84-F392E469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C2A5D-473E-48A1-945C-28DA4A41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DF2FA-4B90-45EA-B1B2-53277815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D6DC3-9D9C-4146-A785-E1C975C5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2E967-1F19-48DE-9A1F-1B9DE8AA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6C42D-D045-48EA-A21B-7FC1999C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ADE8C-EDBF-4768-8E76-EDB51921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E3C-BC2D-446A-9BEF-C0F26CDF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C8E10-7803-4EA8-9489-DCF1CF21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BF848-2AE1-4095-8568-416CF0CE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67BF2-14BC-4EBE-A124-D3D3C159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17187-A5BF-4ACC-840E-CD8C516F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346C7-301A-40BC-838B-F9B0DA75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CCD-AF56-485E-BF4A-76686E61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32D-1EEE-4A69-8AF9-D55E832C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6C9-941C-45A2-9841-1DFF6EDF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E871-5B28-4DA0-8F8C-D1113A37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5B2-0EE3-41A0-A544-E6F36E75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802-A052-4D08-A870-9F87ECB0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F09-0FAF-4CBE-B335-12EFA8B8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D477-BF37-4823-BBAD-63F59D3C3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0DC7-47F8-442C-AA7E-E26766E30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rugs.com/mtm/epsom-salt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Aromatherapy Bath Sa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manda Morgan, MS OTR/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ly Landry, OTA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Are Bath Salts Benefici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psom Sal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of Magnesium and Sulf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Circulatory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sh 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es Electroly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s ability to use insu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stress by elevating seroton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s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muscle pain and inflam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s muscles and nerves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l Fact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sium Sulfates (Epsom Salt) Can be absorbed EXTERNALL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wo 4 lb. cartons of Epsom Salt and empty in bow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container of Baking Soda and empty in bow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x thoroug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xt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op out 1 cup of salt mixture and pour into your b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n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your favorite aromatherapy sc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1 or 2 small drops of favorite o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x salt mixture in b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ter that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a label and punch hole in cor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back of label, write a mess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ad label through tie and wrap tie TIGHTLY around b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ALLY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bag of bath salts home and give to a family memb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appropriate things to say when giving them the gift? (Expressing thankfulness, love, etc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ill thank you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drugs.com/mtm/epsom-sal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buzzle.com/articles/medical-uses-of-epsom-salt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2:10:32Z</dcterms:created>
  <dc:creator>User CFCC</dc:creator>
  <dc:description/>
  <dc:language>en-US</dc:language>
  <cp:lastModifiedBy>User CFCC</cp:lastModifiedBy>
  <dcterms:modified xsi:type="dcterms:W3CDTF">2010-02-08T14:34:24Z</dcterms:modified>
  <cp:revision>4</cp:revision>
  <dc:subject/>
  <dc:title>Making Aromatherapy Bath Salts</dc:title>
</cp:coreProperties>
</file>